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5BE-2EFF-4771-B2E6-691DA7D6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F9B-4372-4F1C-833F-EFB157B5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AB66C-6DD8-45BE-B5B3-CDD86175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CD9B5-06B2-407B-A967-4927CD82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3A843-1AC5-4AAB-AD21-0A47609E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15162-9831-438B-B2CD-51159DC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D7295-5DBE-4645-B62A-B354FD34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FCD31-AB90-4121-AA55-1D4C3C7D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00BD6-869E-465B-81E6-FEB0B607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A9851-0693-405A-962F-1738BF24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B6031-18A0-4138-9BC1-051ACD90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5701F-BC99-4DE7-95B6-2AF786AA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B0B-B04C-48E2-8867-4FA17086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5C6D4-2762-4813-8A86-504AABA2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1E5C2-4EAA-4FBD-B519-E6D3608A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28779-8AC5-4CB6-87A8-895B59CE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07280-6DDD-4827-A276-F46CE6C2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50193-A449-4C76-9440-E6A6FCE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5A54E-BFA3-4BDC-8B1E-CAE08B2F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57710-F033-434A-9EFA-F8D68138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169E2-89DD-444C-8A5F-4457F16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9DF1E-D8B0-4314-B2E4-B64B3CBB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FBF50-D069-4FC5-9818-6B8A37C2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60F-3FEF-4FDB-BBF9-CFA2C89E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8798C-AB36-4913-9A4E-621F7D2B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6E8F9-3E58-4282-ABFB-6613F15F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32D22-9BC8-4475-8B30-D1E2B706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79225-0B94-45B1-90E4-9EB78023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DFF46-06F5-4DDB-8CCF-E3CE5892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60CEF-4F0B-4199-8E4B-FAB3785F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41070-19C9-4642-8FA3-1BB0C138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F4E13-FF45-41EA-ACCD-70021D8D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836E1-1EFF-4EFB-8FA5-2326B2C6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8F380-D977-4DF7-9D58-9A5DC785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8137-683A-4475-AE27-9134AEFD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29465-49BC-44E4-8EE6-2619225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BE19B-6E09-4379-9B18-CEA028D7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1FF11-EAE8-4E99-A39E-B028A35B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4F231-1EA2-4D36-BAF2-76C19036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E8305-BC4C-40FF-B298-A5A3F9AF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00C8A-940E-431E-AB26-3B9D4EC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ABDB8-0258-487A-B464-666F9AAE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9D814-2333-48E0-AA3B-552A318D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93FA8-9EA2-4C4F-83C1-F1D462A6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4158C-4AF1-4588-9D61-EB692D6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EC50-D31A-4AB3-97FF-7CC3AEC0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1F419-ABDF-46B9-81BF-162BCEC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61515-4864-44F2-89D7-AE33F94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EA02A-4466-49C3-B2D4-79C2D712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7BDAA-2644-4CE6-9996-5D2845F9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D9B9E-74FF-422B-8894-65AEA1EB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A37AC-909A-4D3A-9CEA-3523E9A1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19DCD-84FD-48DE-908A-A5527CE8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23B53-E9F4-4F0D-A31E-A13EF6C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CB8D4-C8B8-410E-95BE-73FAF9A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1FFCC-C410-4E50-ACC6-D0EBE7D4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424E-8D60-4D55-97F8-5ED105DA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8C089-0EF6-4921-B258-468302D6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669DE-F983-4429-92CE-A639F128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283E4-A03F-4E36-9F06-B175DCB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4CC39-FF69-4A3F-A425-8FE06FE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07878-EEE3-4CCF-8056-6234BE9B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3E1AD-B607-44AC-86C5-D787E634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9925C-1825-4201-88FD-7109CB2A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E42E8-989B-433D-B9DA-FB1FF055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FF71C-AF35-4F34-96D2-3D7A59D4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1DF04-28D7-40E4-9B58-37D9AB15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987D-7FD3-45DA-A958-26641DBE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5E517-E100-40E5-AF7B-FFDA0FF2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76E23-29A9-4F4F-AEA3-2C2C87A7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6DC97-7C73-46C8-9BDA-77E97FD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70C91-6FF7-4315-B6A0-0531C7D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F209A-ABD0-4525-BEBE-2AC252F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9C0E2-71E9-46CA-9512-8E7E798F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2DD5B-157A-42E9-ABC5-41A744A5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A5030-07A9-47F7-94DD-090A453E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5935E-C401-4201-ACE5-6164EE5E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035FF-60CB-403F-AC0C-F1D0968D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8DE4-F846-4552-812B-3C2F496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EE74C-BE37-42E8-8EC1-CE73B6CB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319D8-5F20-41E4-8073-B74C3796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E9820-F886-4BBF-93EA-284BCF51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8BF1D-66F1-4107-A669-50BC2D02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F4646-6F56-4F1B-8CF0-714ABC0A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F8C56-6A66-4924-AD21-B3C5C70C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7EF35-91AF-4D4A-9C90-729F4C9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D7CC2-77BB-42EA-BB4D-C8E7901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E079F-9D65-4EEA-9260-9AD5CD59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74BBB-D1A1-4991-AE9E-77B256B8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C7AB-8324-4113-8E90-D82B3D5C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4B72B-5D18-4218-BF5C-62FE91B7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A7DCC-1398-4955-909D-35F7C994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86B68-15F0-492B-BE5F-FFBE8C10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79EC4-DCF3-4F07-BF91-23BC8EC7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D3E78-4BBE-4B72-A93C-0AFF5D2F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98116-9BDB-402A-AFF8-284BC012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EA733-9888-45FD-861B-815ABE0D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71CEE-E060-493C-B750-04B8FBC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0616D-6FB7-4BCB-8687-E478CFE9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4B9EC-2634-45F7-BDF9-4161CA8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C61E-8793-4CFD-94A9-DC091B3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F9FCA-5159-4936-9BE4-55530DAF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4EE60-FCEA-4BF8-82EE-F07C13AD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A8EA6-A5AF-4CBE-A270-5B099BAE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AD9B9-5596-400D-8066-06772913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C20D5-FA13-4A67-9246-173FB1A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E8754-6BC3-43AC-A43A-6F645C1D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82934-6DA6-4B84-8ECF-7D0058F9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26446-4DF6-4549-B824-4C592CA9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BB3A5-64FF-4FFD-AEF3-386F906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B9BEF-A61B-4AA0-A75D-CED10FD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630-9D57-42ED-91ED-D853718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0CD0-98E2-4B9C-AE53-6A9B4CA1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9B9B7-5F7D-4807-85E7-99ABA787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6F7F5-B25F-4EE9-B053-41F393C5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178DF-BEF2-4FDD-87C0-E421DADB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4534D-C2E3-4348-A3E9-2F4FF669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B4069-C411-4B03-97A0-44EAE41A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C499C-4340-4D63-961D-3D965EB8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48796-5F2C-47B7-8B72-E8B8DA53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C9A1F-CB2E-4964-9303-92DC7570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60957-E7D0-4AED-8CF4-AA69E9B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991B9-1081-4D5E-816F-0E052EBE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2064-D609-421F-BA62-613BE9A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D5591-11B4-4502-A2EC-CDD198E2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FAC1C-86B5-4256-84AF-B5E9F15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D9426-C153-44E5-AF21-79256452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AA04C-E3FA-4706-A4E3-F64867A7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27C45-BD2B-4496-9A67-FCFAB2AB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18E4C-0C40-439F-A04C-3230CC5A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2662D-9C28-4FE9-8A9A-6D684DAF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D3C92-7D20-4D58-8F51-54DB4CC2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25275-7590-4D2B-B8AA-560E45C6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B0E3F-4EF4-43B7-B01C-C26DCC32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FDA-0B52-4F63-BF5A-7CD53537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5E6B9-1B39-4FD1-8FB7-44B44717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2BA94-EBBA-4DEC-8138-D3022E48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59167-1F6A-4243-A88C-A228359C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B7E151-A8CC-453A-B47C-5B71280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71315-DA3F-466B-ADE7-7AEE074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FF64B-BF6C-4339-B628-984FF4BD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0BDB8-75A6-4B3B-8F31-5A7871D6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32311-E043-42B0-8607-FD2131BB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45A85-DD0A-43C9-81EA-C50E9F08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3DCCA-1D94-43FD-8A19-174017CB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F686-A66B-46D6-88A5-4150A8DC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C614A-AF6E-4B4D-BBE1-C1515541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83B8B-AB8E-4844-B758-196CE4A9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EFC070-4738-42C2-9DD8-EF87166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1556F-7290-498B-B515-C2886BBE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6CF77-DF7F-4FAB-9CEE-E211895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15B723-0291-44B2-AF10-E31A928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0C77A-470C-4BEB-A7E6-131CB0A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5F8E3-ADCF-4E8D-9E80-290CBCF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29B83-AB42-47E6-AD95-0C01F2FC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2A7AF-E401-4222-A78F-63B9364C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980-2AAF-4AC7-9A05-BBFBA036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B194D-7F6C-4C25-A76D-04A1E315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C5240-457F-473E-B99E-AD2A6EDA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C2A7C8-EDB0-4E1B-8646-99F7D08A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AA734-01FE-4F9C-9065-268D1CBE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CF7CC-8C1C-4E61-A664-B6572BF2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BB0EDD-6251-4831-A70B-4CCAF3A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DA048-58E7-4403-BF09-82E35E97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5D182-1EDD-4032-B895-4F80BB4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CFA7C-6FC8-4AEA-BEF1-291E65E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37156-11ED-49F3-A706-A788CD0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693E-AB54-4831-AE14-3F8483B1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34971A-9A6B-4A3A-84D7-41E55571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42ACB-E474-4086-8B0F-CC11AEC1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F4688-01B4-40D7-8627-A7000514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967D-6DAF-444B-8390-35A6492A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A73F-4C4D-48D3-82E0-3B4E9B27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1B3A-E90E-40B2-B98E-A25AC67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B9319-B634-4A53-AA36-30722F7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454-AC31-40ED-89AB-3020D112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2AD9C-F460-4150-91A8-A5879472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7768-38EB-48FB-B82B-8DE49504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1C9F-44E9-4563-8BA1-94B16E93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6B02-F378-4AA1-83C4-EC2D6EA5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13CB-ADCD-41D5-BE42-66861002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0129-2551-4AA3-A388-56F996FB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D617-B4D8-4240-8F9B-80CEDF1B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52425-6C92-4DE6-A15D-E9735554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B004-70E0-4B7F-8C41-42CDC4A8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4967-F9E0-45AE-B29B-DC1DD62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506-9FCB-4123-A07C-0771A5EE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81A6-F925-4D01-AF87-404578FD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25F1-EA54-49CB-BD77-1AD7A6C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427E-5AE0-4F01-8C8D-E323C312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823A-9228-4B4C-8F76-790E2BC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0CCD-4DFF-4B9B-8DA4-42A9C1A8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57E7-FB0F-4C9F-9618-8A55408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F3ED-24C8-4CCB-8B87-C4F4A8E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5DCA-30EB-47EE-8C6F-54ECCE4E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5DBD-40B0-43FE-BADC-683A21D1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C7B8-4730-439C-A9A6-E3204CEE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581-B9AF-4524-B36D-37C59408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C911-D64C-480F-93B7-6381D2E4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135B-DF8F-4A83-A21C-C5EFFCF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CD647-AB83-451E-B878-F973BFFF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B1994-3A74-4B83-BB07-AE6D6757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CAC5-C810-4B2F-A9DE-A02CF00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DEA4-17BC-4790-8C99-D32E3444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80A6-0CBA-47FF-90C4-E3546F3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0578-DB09-4DE9-BA4A-0A35F1B9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5E5F6-CE01-48AA-A2DC-475D266C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EEAC-5807-4D43-82E8-302061EA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0E5-3561-4BEB-B336-38D4D2A5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D02A9-F8F9-4874-AE56-343A7178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FEC8E-D8FB-4AA9-AC9E-D6F031C0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7FBE-432F-4FC8-A8AF-3B7F62DE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61FC8-E139-4787-8DE9-C3830A5F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A50B-8EFB-4D7D-B27C-C5E15F24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47B23-06C5-4498-B81C-989D249A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5413-1B76-4F1A-820A-D2E540E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19DE5-8F74-4D69-B7E3-826966E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DC467-3A50-45C0-93E3-D0EE61F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C455-CD8A-485B-BF0D-E24AA2AC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A41-0F74-40E2-8E8B-DEB3A3CE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55E77-36EA-4A26-B394-2EA3712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A650-FE60-402B-A396-67AA764B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36722-17C4-43D1-9953-5DDDF5AA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EC2A-DCBA-4F17-8F0A-9826B46F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3ADB-D79E-43F4-80B9-5D986BDD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5A94-677B-4EA6-871E-2FB4E718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DE0A-5001-4A61-82CA-608AA56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A99B-F9B0-4AFB-ABD9-F179132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3B584-2746-44E5-9B32-4F86F2E0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ADB37-760B-480C-9112-CE9EDE9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13D-800C-4D81-9D66-18B5DEDD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301BB-A528-4E4E-A351-C4F385ED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D345B-9688-4C17-9717-7829FAD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E35F-5254-437B-8E14-CD0584A8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821B2-F609-4C61-9783-FAF6C86E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D3C2-3D0A-4418-8F7D-4F8A930D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9C02-B74E-4E6D-8079-D851545C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43862-D821-4B00-9AF4-5BF96212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BC9A1-87FE-491D-8E4A-4EAC823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F8A95-CB2A-4EF8-B981-5233D47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45558-5BFB-42C3-B174-45B383FC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F2F-7E08-4F62-8490-5EF6991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54802-684D-49E6-B918-8B3755FE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B0818-3DFE-41DD-A796-A4BCE85A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B43D1-2BE3-4463-90C6-BDF85B62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47718-B061-420A-BAEC-84B9C615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6FB21-79DF-40DA-96EB-3C9101BC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4E3B0-6962-4EB9-928D-CFD8EE0E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1A94F-C3F4-4D35-B746-B57CF30B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366C6-0C5F-4429-8DC8-AB53D6D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99735-48C6-4FDF-9FF3-20230923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E05A3-4962-4084-878A-4C50C072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F8B6-91A9-4507-9C52-293849817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4913-A1D9-409B-B221-A710614E6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C334-5A5A-471D-A714-15FECF1C3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5BE-8767-494A-A5E4-5F8F6EE247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CBEF-295A-4932-A489-E0095C510C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2BED-86F7-4626-892E-3E33C80678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CB01-184F-462F-B13A-0C8BDC959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66E9-8164-41E3-8002-CB8FE455D3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0BE-6D37-421F-AE2B-6814E2D518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80D6-5828-40D4-81DE-6B4950F109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3B4D-C6C3-4569-8F8F-D5ECD1BC7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D391-9E95-4A9D-AE80-B1AD97F04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BB4-FE00-4AD1-912C-0E46B3583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C69E-3748-4124-8E3E-2B89D7E53B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092B-887A-4E41-BF00-19FBF6295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1B71-E628-4BA1-9E09-A2DB1B8C96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C113-2962-473C-A7D5-28B55C158D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EB4-179E-43DE-A061-45C8B08F2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D4D3-5F11-40BB-AE57-C5873280A9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6266-1E29-4FB3-B7F3-A62B156218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5533-0014-4C7B-8B9D-5F0586D39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156C-A072-4877-BD7A-BD0B92085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8469-0ACA-4257-9D12-6920AACDE3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360C-0607-48FC-85E3-DA92A6AD4B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D9E0-D910-465A-924A-FDF5D94E2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463-A356-4DB1-9DC4-DE3096A07D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CFA-2097-442C-85B8-EF594CEB75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3454-7D86-470F-BB80-E6E24502F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877C-6918-4355-A8F0-09CF8873CE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CA0-7411-416F-8CB1-8B8456208C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E854-0770-42D0-BB9D-3D1C281C6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E0CB-0464-44D7-BB9A-7066B026EA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C976-8135-4372-AA17-A79F5BD6B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A113-355E-4296-98F7-553D5C4F2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EE47-2458-40DC-A8A0-5A2C5B2DE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BD0D-5CE5-4387-8BA8-3ADA65EDB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F05F-DC38-4E69-AC2C-53CB32398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613B-0DD7-4624-AE75-A490C55D2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B477-C409-4780-A7FD-3FE7701FB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EAD2-C927-4263-8ACA-61D62D766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71680" y="2976480"/>
            <a:ext cx="62006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28680" y="890640"/>
            <a:ext cx="8485200" cy="5076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7636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403280" y="378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403280" y="47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403280" y="558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2" descr=""/>
          <p:cNvPicPr/>
          <p:nvPr/>
        </p:nvPicPr>
        <p:blipFill>
          <a:blip r:embed="rId1"/>
          <a:stretch/>
        </p:blipFill>
        <p:spPr>
          <a:xfrm>
            <a:off x="-3240" y="1076400"/>
            <a:ext cx="9151920" cy="4705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778040" y="530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5940360" y="5300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233360" y="1967040"/>
            <a:ext cx="6677280" cy="29239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516720" y="4292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14480" y="1114560"/>
            <a:ext cx="8915400" cy="46288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61880" y="1238400"/>
            <a:ext cx="8218440" cy="43812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755640" y="4091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28520" y="890640"/>
            <a:ext cx="8885160" cy="5076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2700360" y="374508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4500720" y="37591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2771640" y="45529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7885080" y="4537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6"/>
          <a:stretch/>
        </p:blipFill>
        <p:spPr>
          <a:xfrm>
            <a:off x="6227640" y="5315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7"/>
          <a:stretch/>
        </p:blipFill>
        <p:spPr>
          <a:xfrm>
            <a:off x="7885080" y="5315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2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